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498D-74C9-4839-8899-0C7F8471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4F9BA-7B79-43D5-B43C-A1B9DF2B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142B-BD34-4C8E-AF3B-2D862727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78E8-6CB1-4F6D-8B50-2405CBC6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81DF-A501-4CCB-9255-90B4BC26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1029-2100-486B-A177-6E8486C8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60E7-021D-48DB-9CC8-9B90330F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215E-BA9C-420E-8219-80B1670D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F755-41C7-4668-B223-B45E7691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DE72-D093-4264-868F-E5D49674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E805-0C6F-42EB-A594-5C111419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95199-CA96-4643-A419-47BE1749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6A98-816B-4CF0-A217-9EC53DF0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08A3-714C-4B8A-9601-1169128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6BDE-4299-449A-8AAB-77587858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96B3-B3A4-42CD-98FF-50298F7D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2943-87C4-4248-BD0C-85A9C727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42043-062B-473C-AE7A-05AB6E8E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4348-24D4-4525-A563-838629E0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B136-5CDE-41C3-847B-E1D9F5F9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F466-C39B-49F8-8C94-5E796020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F358-EB94-49C6-9DC0-07222C17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DCAB-297B-4681-A6CD-E0EB528A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E932-F799-4064-ABDB-56A72374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8555-1D36-4582-AA26-B15E5A247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BBF6-BD09-4676-82BB-8805F8C25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FGVX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FGVX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ipher involves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trans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stitution involves a 6 x 6 square where the rows and columns are labeled by the letters ADFGV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etters were selected because they are easy to distinguish as Mors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position is a simple column transposition based on a key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F22C-AABD-404F-8B5F-3101C5EB94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13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letters and 10 digits are entered into a 6 x 6 matrix using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86400" y="2971800"/>
            <a:ext cx="2786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D  F  G  V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1680" y="304812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eyword:  when2go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35053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  h  e  n  2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657600"/>
            <a:ext cx="32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nter the keyword and then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ill in the rest of the matrix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sing the unused letters and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mbers i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320" y="4070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  9  3  a  b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4320" y="4603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 f  i  j  k 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2520" y="5159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  p  q  r  s 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33160" y="57150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  v  x  y  z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31360" y="62564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 4  5  6  7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53400" y="6272280"/>
            <a:ext cx="100944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4914-12A6-4414-BCD7-000E2683B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7400" y="1774440"/>
            <a:ext cx="761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tter and number in the plaintext is replaced by the letters on the column and row headings of th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86400" y="2971800"/>
            <a:ext cx="2970360" cy="3660120"/>
            <a:chOff x="986400" y="2971800"/>
            <a:chExt cx="2970360" cy="3660120"/>
          </a:xfrm>
        </p:grpSpPr>
        <p:sp>
          <p:nvSpPr>
            <p:cNvPr id="130" name=""/>
            <p:cNvSpPr/>
            <p:nvPr/>
          </p:nvSpPr>
          <p:spPr>
            <a:xfrm>
              <a:off x="986400" y="2971800"/>
              <a:ext cx="278676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  D  F  G  V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8200" y="35053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  h  e  n  2 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4320" y="4070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  9  3  a  b 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4320" y="460368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  f  i  j  k  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2520" y="5159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  p  q  r  s  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33160" y="57150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  v  x  y  z 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31360" y="625644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  4  5  6  7  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383720" y="4219560"/>
            <a:ext cx="40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text:   n   e   x   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hertext:   AG  AF  VF  G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75360" y="6219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EA8E-BC8B-484B-A008-BD13DD9F7B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lumn transposition with a keyword, the ciphertext is written in rows and then read in columns in a specified o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4322880"/>
            <a:ext cx="16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A G G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X G F X D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V A A D X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 G D G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G A V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0240" y="5178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57920" y="4707000"/>
            <a:ext cx="25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d down columns in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 – 6 - 1- 2 – 5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7480" y="48848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FADG VXXGG AXVFA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GAGF GDXXV GXD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7083360" y="6124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7381-C892-4DAB-A6A2-B7EDD7BEF9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8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 both of which are determined by a keyw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 because it has 7 let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19880" y="5411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05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081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29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555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3224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128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8320" y="603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61800" y="60642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3F94-5DFA-4343-AE82-48B178C6EA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DFGVX cipher from the cipher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7360" y="2962440"/>
            <a:ext cx="5691240" cy="3695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56480" y="3432240"/>
            <a:ext cx="1238040" cy="696960"/>
          </a:xfrm>
          <a:prstGeom prst="wedgeRoundRectCallout">
            <a:avLst>
              <a:gd name="adj1" fmla="val -42819"/>
              <a:gd name="adj2" fmla="val 1060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keyword sets up th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2760" y="4452840"/>
            <a:ext cx="1384200" cy="851040"/>
          </a:xfrm>
          <a:prstGeom prst="wedgeRoundRectCallout">
            <a:avLst>
              <a:gd name="adj1" fmla="val -43578"/>
              <a:gd name="adj2" fmla="val 95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keyword sets up colum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93680" y="6205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36D8-CF0E-4E24-BBCF-EE9B3177EB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9T01:54:56Z</dcterms:modified>
  <cp:revision>40</cp:revision>
  <dc:subject/>
  <dc:title>CAP Cryptographic Analysis Program</dc:title>
</cp:coreProperties>
</file>